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E14-0E31-42F5-A4C0-AACA917C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AA4-8FC1-4BE6-8112-5AA4A8D5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D5E-F716-40F5-9E53-5F852296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56F-6ACB-4B89-BA02-44EB3F7F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CF9-3A2F-4001-BCD8-E58CD6BD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575-B484-4DE4-A985-706ABD7A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8AFE-7001-45A0-898A-1D3740EB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6D6-394B-47C7-BEDB-2CB40744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9C9-868D-4C99-89A0-6C6901BB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66D-E278-40B7-9FDF-71945CB7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526-023B-41A3-B2FF-30C16181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1EC-A1E3-4C28-B0F7-A6C5706B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C8BF-1FC4-41C0-A8C4-8AC3A6431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21010200">
            <a:off x="971280" y="2924280"/>
            <a:ext cx="2306520" cy="3230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523800">
            <a:off x="5729040" y="3071880"/>
            <a:ext cx="2217600" cy="3052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 зовут Шелегов Ил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учусь в 6-б классе. Посещаю секцию бокса 4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это время участвовал во многих соревнованиях. Име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й кумир-Костя Цз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>
            <a:lum bright="12000"/>
          </a:blip>
          <a:srcRect l="14745" t="0" r="21323" b="2747"/>
          <a:stretch/>
        </p:blipFill>
        <p:spPr>
          <a:xfrm>
            <a:off x="6659640" y="189000"/>
            <a:ext cx="227340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348000" y="2565360"/>
            <a:ext cx="2338560" cy="400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зю родился 19 сентября 1969 года в Серове, небольшом промышленном городе с населением около 100 тысяч человек, расположенном в Свердловской области. Его отец работал на металлургическом заводе, а мать была медсестрой. Когда Константину было девять лет, его отец, почувствовавший, что неуемной энергии сына нужен какой-то выход, привел его в секцию бокса местной ДЮСШ. «Большинство ребят в секции были примерно на четыре года старше меня, — вспоминает Константин. — Но вскоре я начал их всех побеждать и меня начали вызывать на сборы национальной команды, на которых я проводил по 250 дней в году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СТАНТИН ЦЗ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osmopolitan - Костя Дзю, иллюстрация 1"/>
          <p:cNvPicPr/>
          <p:nvPr/>
        </p:nvPicPr>
        <p:blipFill>
          <a:blip r:embed="rId1"/>
          <a:stretch/>
        </p:blipFill>
        <p:spPr>
          <a:xfrm>
            <a:off x="4643280" y="189000"/>
            <a:ext cx="345780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52563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дважды признавался лучшим боксером Европы. У НЕГО 259 побед, 11 поражений.  До титульного боя Цзю затратил три года и уже в 14-том поединке стал чемпионом мира. Обладая маленьким, даже для своего веса, ростом (170 см) Косте всегда приходилось встречаться с соперниками выше себя. Насчет ударной мощи Цзю как-то высказался его тренер Джони Льюис. Он говорил, что у Кости удар сильнее, чем у Энтони Мундайна (Австралия), которого он тоже тренировал. А это уже весовая категория 168 ф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51640" y="1413000"/>
            <a:ext cx="3278160" cy="38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4546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еди «жертв» будущие чемпионы мира среди профи: Вернон Форрест (WBA), Террон Миллет (IBF), Орзубек Назаров (WBA) и Артур Григорян (WBO). Крис Берд (чемпион мира в супертяжелом весе, IBF): «Костя Цзю, наверное, самый талантливый боксер, которого я видел на любительском ринге». Профессиональный бокс работает по другим канонам, нежели его любительский собрат. Я всегда был уверен, что вопрос о реванше решает победитель. К моменту возвращения Цзю в качестве претендента на титул, Филлипс успел распрощаться с чемпионским поясом. Костя затратил 2 года на получение права на титульный бой, проведя 4 поеди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441600" cy="4391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аукционе были выставлены вещи Кости Цз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чат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0 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орт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5 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нт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5 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ксёрк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ла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0 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вырученные деньги он собирается потратить на строительство детского д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240000" cy="453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19:31Z</dcterms:created>
  <dc:creator>Покоёнок Л.М.</dc:creator>
  <dc:description/>
  <dc:language>en-US</dc:language>
  <cp:lastModifiedBy>Покоёнок Л.М.</cp:lastModifiedBy>
  <dcterms:modified xsi:type="dcterms:W3CDTF">2009-01-11T05:54:27Z</dcterms:modified>
  <cp:revision>5</cp:revision>
  <dc:subject/>
  <dc:title>Слайд 1</dc:title>
</cp:coreProperties>
</file>